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64D7-7F13-4F2D-8EDC-6175972E3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10DA-4F05-4335-8E3E-452C44BD2AC5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traordinary idea began in NC 4 yrs ago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4FC0-7985-45CD-AF2F-1403CD113DBE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80E2-7805-4AE6-B884-D51F5DF54F26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7338-48CA-4E73-95B8-D55025A4EACF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3FEB-FAED-4216-AB36-C566E08C9733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ED5C-65CA-4057-9D59-36123B186CB1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courses are online. How LEO links with these organizations/program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F84-3650-44E7-BD80-1B04F18067E6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 started at the top, Office of the Governo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0E4-ED2A-42D4-A270-6D3ECFED6F44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New Bureaucrac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8 NCCCS campu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168E-0823-40A5-A4F5-3CEF1C0C13F9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d with NCVPS to offer knowledge of graduation requirements and take advantage of DLC/D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7A6A-147E-444E-9001-7C62E4EA92DF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reer &amp; College: Ready, Set, Go - Increase the number of students taking college credit courses while in high school; graduating from high school; going to college; and completing a degree from community colleges, colleges and universit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18D7-5F65-43DF-9BA0-36933D3039A6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955B-DDC5-416A-AE17-CB3CECC1C3C1}" type="slidenum">
              <a:rPr b="0" lang="en-US" sz="1200" spc="-1" strike="noStrike">
                <a:solidFill>
                  <a:srgbClr val="ebff1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eptance – more high school students than ever are capable of success in a college cour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10E-0B6C-4221-B1A0-0337B05F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780-8F8F-4B63-86F9-63623034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6D725-275C-436F-B7D2-85CD151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64A4A-858F-4CBB-86CB-73891552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8DA9A-9090-4D52-9D9E-D3093858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7DFE1-65FD-4336-AF5B-D0571002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E03CE-3833-466A-96F3-0CFEB3C2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56836-A7A6-40EF-A02C-378786E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7F47E-7988-43D2-8501-C713DB9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E0B11-4D55-43E3-AAA6-055B2C49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30BFC-4717-4F3A-83C2-637A9710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D1A99-EDB4-47A5-BC00-7225D966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8B1-8958-4FFD-9212-31F33BA0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B0F2E-BAEA-4BBD-B543-6F24A7C2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9C562-1454-42A6-BCF1-431B4632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6B60C-CFEA-486B-8006-7CDEB9B3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3D50E-BAE6-4116-A1A9-0ED6BF37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87CC1-5813-4222-A6A3-D593FDC4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68502-187E-48A7-912F-03F8C5F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8C1F7-606E-4DED-8F61-EB544D0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E04B9-731F-4511-83C5-1C121AE7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218D5-1ED2-4156-84C8-5CCD0206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6BE8B-A888-4455-9C6A-5D2D25E6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9A6-AEC0-42CE-A550-8E954ACA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DF240-63CB-4198-A935-E52D6E0D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EA0E8-8FE4-4B9F-9BDA-E3640A62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3C3DB-57D9-4866-9B4C-075839DD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6A9D0-8912-4B1B-967E-66BA2123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AE261-21FF-4A35-B4AC-4488B4B0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D2473-AC03-4165-BB93-6DBC0921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73A60-CBB8-4BF4-9E18-3D3B03E6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6388D-A870-4F33-9CE3-FB46022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5862F-6ECA-44E4-889A-32611AF6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DDFED-7285-48B0-B091-866C5D0A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A5E3-CF4D-4FAB-BE45-F7FB3D02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6FD4B-0646-45BE-92A4-A0972540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659D9-C530-4679-AD9F-FD2CCEBB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D4554-4C91-412E-BB72-A4E6C435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09532-6277-4A25-A200-7F7D69AD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0D0D2-6847-43FF-9E74-4E80E39F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689D2-540B-4727-AF13-1CE0619A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B17C0-966A-490D-9588-30AA6C60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1E4AB-0DF3-47EC-B11C-C0FD5029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958FB-2F77-4BB4-9783-27CB67F2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1FDD3-3AFE-4585-914C-06074C0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3F40-EF03-44BC-9CC7-C298A401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1DD5F-A1AA-48B8-9BFC-F0E4CDAB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77479-FACE-41DF-9A0E-491ED07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159E0-1C26-4C7C-9F8E-C57DEBCC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E7DA5-4B05-4587-83D9-371661A1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DCABA-FB1C-455A-BD32-07C997B6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58428-4A2D-4DA8-9251-82B94A2C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44909-729C-47BD-AF85-BD3D776E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3D51A-22F8-4488-B5A6-59EC4F93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A7105-1E6F-4108-B8B0-97853811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C99AD-1161-4A10-BDDA-5C370BC5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5A4-0DE9-4CFB-AFA4-F134EA8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C5D38-6C37-4D6B-9A2C-6BEFDB24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92EEC-6996-439C-A1FA-AAEE1C4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33A7E-4A1E-4353-8B6D-3598AE2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EB2FB-D060-443F-9C60-E16E2A10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53630-E797-40A3-848C-18C011FB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E7FD8-9065-4304-B067-3B0B1D43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93796-3D26-470D-A25E-BD7FFF0D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CEBD7-4B9D-44C9-B64E-657F43A3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015D2-942A-46BA-9081-00115D81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1920A-538E-4C91-971D-428E1749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9C04-619A-4B0E-AFBD-2E7F0B05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4FCE3-41AF-401D-BCAE-88E90704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EA8A8-E157-47AA-9E30-4A48136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323BD-FE18-4362-A2E8-0D395D20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3FFD1-A9CD-4726-89BD-09EAD98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958A6-34EB-4739-8104-A56FED3C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9D3B1-3EA7-4035-AD28-DB7F3047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AD210-4408-4DB8-B06F-DE266649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391D1-05E5-49EC-896F-1E2651F5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8658A-F95A-4600-AC92-EF24ECA9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195AA-FE53-46A8-8523-06D802DD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D4A3-AC4F-4482-9E89-B387523C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F03A7-844F-4F89-9D78-3059709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44B91-A1B9-483A-858A-ECFDC029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27000-40CD-48C1-AA12-685DAA45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C928B-E59F-4DA5-A462-A0A9EC7B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67BDC-74C9-4609-A9AE-5C88B471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75E7E-4F35-4146-ACB0-76387DCF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4F9C4-78E0-4701-9F84-71EA491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296A8-16A8-4D2F-A3E4-088D31F6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591DC-32DD-4BD9-9B79-D4BB258A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1B706-FF58-434B-98C1-8395DF32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82E6-003F-4118-97C5-261548E1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87AC9-FC67-4CD0-9C59-CC1A1A69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02D-2EA2-4B18-85F2-D51A359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1D7-23E0-4B3B-83FC-078A778E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0B96-FE7E-49FC-B342-34964C8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74B3-FB23-4266-A9C9-A1089655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A804-EB7B-4B3E-B804-5361028A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241D-F911-4C03-9E96-119248EB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01AE-7C1B-4D87-9337-9C33A552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33F6-515E-4BC1-AA12-003FCC93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FB5A-B0FB-4567-A136-457F399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96615-4501-4B7B-8852-024D0A23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1C54-42C6-4B45-9AC5-8F3A9086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2494-3F0B-47AC-9B57-CF79083E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49A-C1A7-4F49-845D-EC18E559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CC29-BF73-4168-9523-9F256D49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83C2-AB2E-4D9F-8311-6F8A3724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7C69-CC13-4658-9E4F-AEFD8C3D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C63A-D948-4042-889C-D0C6880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5B20-D9AF-4DCF-B18E-A9721BFB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5C01-96F6-428B-AB70-33343398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2DCE-C19C-400F-94CA-F7899EA1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B7A5-71D7-4457-BD7D-3D25EED4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1E718-6C9E-436A-B8A3-AA432B01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D574-3B06-4056-9E49-F4504B6C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064-5853-40F5-B50F-DBAE952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79735-6E43-4960-983D-D87CA3FE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30D6-17A7-4741-87DC-4656990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CC49-1082-411A-BDD5-83660F84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D747B-9E18-40DC-B0D2-F453AB1E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2CE6-C9D2-4138-A74E-23E0AD0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16BA-503E-4E5D-BE7A-3952EC2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EED9-D8D0-4024-8433-C254132A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AEE6-D983-4CF3-A43F-95F156D6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DCE7-345D-4AA9-8373-C97E5B2E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B9A8-BF64-4078-BE96-FEA5BECF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66D-973A-4156-85A5-2BBD0D4A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4A0CD-D897-4879-97DA-E0FD5AC1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65C4-49A3-4E81-9833-E019C204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39BB8-97AB-4669-A085-01194A41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2CC2D-DB08-4735-A5E9-2B4559D7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1EEC9-58CD-496F-B670-E48AD1DE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F4BB-5D03-42C4-8884-8DE4029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49ACC-73FA-415A-8860-03C0B5E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BB9D-DBA3-4FDB-A3C2-80B0F063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C47F-D3C9-42B0-8F91-E55C2F4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6433B-B07A-4293-AEA3-4B517AAE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242-447E-4759-A0D0-DEBC784C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A021-77D9-434B-8122-15F6913B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80A47-095A-4319-A79D-B748D7DD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01BE4-BD27-403F-A3C6-4E2406AB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6D38A-FFD8-4446-9ADE-6B5A4920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CF651-5193-491F-A78C-584AD641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101C8-38CB-4B21-945C-A8FFB671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8ADE-D98F-4106-A820-35EA26E5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C41C-D04D-4673-9CCA-E796B681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C095-BD51-4792-9E31-0883E6D1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EE55E-3DDB-4C03-94C0-0F732D4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F85-77AE-4EF3-AB6F-2DC893C0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5A7E-2764-45CB-838E-E07EECBE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070A1-B206-4E67-AF81-F3C45E9F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97DD-B58C-4EAE-9023-E27C2FC0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142ED-843C-48F3-B35D-DC1DC680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3ACFC-83DC-4C40-9ED2-22A27737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FB29B-D4C5-4BE5-B6C4-BEB48F89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AF14B-0C88-410F-8E07-59A53EB1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6C6B7-B3A0-4CBF-8A28-1971B6CF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3EABD-11F3-4FEF-829F-3135505F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DAC3D-FB44-48E3-9D33-B4023969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A21-CC2E-43AF-9787-96A5752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11FFF-1A4F-4D13-B5E5-B5E01C49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8F0B6-A36F-46F5-9823-08EAB6C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00884-9CAC-4907-BE39-25304ADD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6BF3F-87D1-46E2-8739-1A44495D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08073-B8E5-42B7-AACE-1448EA7B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D2C07-41AB-4A77-B623-1FB45848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437F3-72F8-4C50-B1D5-9930AFE5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85E5-893E-46B5-9C87-885A36E4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03CB-BE98-4114-89E6-94482AA6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D4144-3512-4245-9965-DA5F3359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BAE-EA08-48D7-96A6-0CA46D01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A128-6C9C-4D8B-8009-074B58D5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8DBA-F625-4D73-9193-2075DF17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6559A-8BF2-4586-9832-CE371BA7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6E477-A935-4C2C-ACAD-7172D4B9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BCA05-37DB-417C-ACC2-FD16A0DF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755E4-E839-4879-91E4-8F22FC20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B00D7-734A-4384-B90C-CCC31120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A48BB-4822-4694-A60A-910B14C2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F90AE-43AF-49AD-B35A-15A96A34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FEE97-9710-493D-95F0-E0B4F31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rn and Earn O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AFAA-2C84-4FE6-8803-B5BF8DE09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A19C-CBC4-4DA7-9683-C3DA2C87B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5D5C-B37F-4566-8D42-01341963D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9C32-2492-4881-8B7A-B7AEA4065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82C7-1F42-4B39-A794-3788DE2B3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1E55-1C2B-4A0C-9F88-6F64C8049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ff1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D66D-519C-4138-9F25-2F72DAD1DD6B}" type="slidenum">
              <a:rPr b="0" lang="en-US" sz="1400" spc="-1" strike="noStrike">
                <a:solidFill>
                  <a:srgbClr val="ebff1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F6D8-5D98-412D-98B7-24AAA63ACB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577B-440E-495C-A110-9AFA536BE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A7A1-8EEB-42BD-900A-1E1C2F2CA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445-660B-4BB8-B06A-C037419B3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E0D7-62C9-4161-B22C-3BC7C7F44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09B-3676-48B6-86AB-52B16BDA9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4A2E-4511-4E21-93B3-96B1907CD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AF4E-734E-4342-AD5C-C27B51BDE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f3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bff1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9520-92EC-4CE8-8480-15F8E6F00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85440" y="2819520"/>
            <a:ext cx="8001000" cy="3124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Free College Course for High School Student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Virtual School Symposium</a:t>
            </a: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November 15, 2010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746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nrollment Trend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Reaction of district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99/100 Counties participating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nrollment Trend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College work/credit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Complex administration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Conflicting policies/schedules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Economic climate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746840" cy="2031840"/>
          </a:xfrm>
          <a:prstGeom prst="rect">
            <a:avLst/>
          </a:prstGeom>
          <a:ln w="0">
            <a:noFill/>
          </a:ln>
        </p:spPr>
      </p:pic>
      <p:sp>
        <p:nvSpPr>
          <p:cNvPr id="661" name="TextBox 7"/>
          <p:cNvSpPr/>
          <p:nvPr/>
        </p:nvSpPr>
        <p:spPr>
          <a:xfrm>
            <a:off x="380880" y="3048120"/>
            <a:ext cx="8763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Deborah Pedersen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Chief Learn and Earn Online Officer, deborah.pedersen@ncpublicschools.gov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Antonio Jordan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Director Joint High School Partnerships, jordana@nccommunitycolleges.edu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Beth Boyett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Director UNCG iSchool, 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beth_boyett@uncg.edu 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pic>
        <p:nvPicPr>
          <p:cNvPr id="626" name="Picture 5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746840" cy="2031840"/>
          </a:xfrm>
          <a:prstGeom prst="rect">
            <a:avLst/>
          </a:prstGeom>
          <a:ln w="0">
            <a:noFill/>
          </a:ln>
        </p:spPr>
      </p:pic>
      <p:sp>
        <p:nvSpPr>
          <p:cNvPr id="627" name="TextBox 7"/>
          <p:cNvSpPr/>
          <p:nvPr/>
        </p:nvSpPr>
        <p:spPr>
          <a:xfrm>
            <a:off x="380880" y="3048120"/>
            <a:ext cx="8763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Deborah Pedersen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Chief Learn and Earn Online Officer, deborah.pedersen@ncpublicschools.gov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Antonio Jordan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Director Joint High School Partnerships, jordana@nccommunitycolleges.edu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buClr>
                <a:srgbClr val="ebff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f16"/>
                </a:solidFill>
                <a:latin typeface="Tahoma"/>
              </a:rPr>
              <a:t>Beth Boyett</a:t>
            </a: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, Director UNCG iSchool, 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f16"/>
                </a:solidFill>
                <a:latin typeface="Tahoma"/>
              </a:rPr>
              <a:t>beth_boyett@uncg.edu </a:t>
            </a: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8001000" cy="20988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"/>
          <p:cNvPicPr/>
          <p:nvPr/>
        </p:nvPicPr>
        <p:blipFill>
          <a:blip r:embed="rId3"/>
          <a:stretch/>
        </p:blipFill>
        <p:spPr>
          <a:xfrm>
            <a:off x="914400" y="2743200"/>
            <a:ext cx="3230640" cy="13273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9" descr=""/>
          <p:cNvPicPr/>
          <p:nvPr/>
        </p:nvPicPr>
        <p:blipFill>
          <a:blip r:embed="rId4"/>
          <a:stretch/>
        </p:blipFill>
        <p:spPr>
          <a:xfrm>
            <a:off x="6629400" y="2743200"/>
            <a:ext cx="1762200" cy="2590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0" descr=""/>
          <p:cNvPicPr/>
          <p:nvPr/>
        </p:nvPicPr>
        <p:blipFill>
          <a:blip r:embed="rId5"/>
          <a:stretch/>
        </p:blipFill>
        <p:spPr>
          <a:xfrm>
            <a:off x="6078600" y="6095880"/>
            <a:ext cx="3065400" cy="762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logo_ncvps2"/>
          <p:cNvPicPr/>
          <p:nvPr/>
        </p:nvPicPr>
        <p:blipFill>
          <a:blip r:embed="rId6"/>
          <a:stretch/>
        </p:blipFill>
        <p:spPr>
          <a:xfrm>
            <a:off x="0" y="6149880"/>
            <a:ext cx="31240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Policy/Strategy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440" y="1523880"/>
            <a:ext cx="8458200" cy="5029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LEO Legislation</a:t>
            </a:r>
            <a:endParaRPr b="0" lang="en-US" sz="54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Office of the Governor 2007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13160" indent="-274320">
              <a:spcBef>
                <a:spcPts val="9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2008 Innovation in Gov’t Award from Harvard Kennedy School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General Assembly support 2009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Future 2011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xisting Organization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440" y="1447920"/>
            <a:ext cx="8458200" cy="5029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College Course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Participating NCCCS colleges</a:t>
            </a: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University Course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UNCG iSchool</a:t>
            </a: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NC Dept of Public Instruction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Liaison </a:t>
            </a: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NC Dept of Public Instruction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440" y="144756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K-20 Continuum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ebff16"/>
                </a:solidFill>
                <a:latin typeface="Tahoma"/>
              </a:rPr>
              <a:t>Right student, right course, right time”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NCVPS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Distance Learning Coordinators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Distance Learning Advisors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Governmental Support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SBOE Goals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21</a:t>
            </a:r>
            <a:r>
              <a:rPr b="0" lang="en-US" sz="3200" spc="-1" strike="noStrike" baseline="30000">
                <a:solidFill>
                  <a:srgbClr val="ebff16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ebff16"/>
                </a:solidFill>
                <a:latin typeface="Tahoma"/>
              </a:rPr>
              <a:t> Century Skills </a:t>
            </a: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Every student has opportunity to graduate with college transfer credit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Governor 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Career College</a:t>
            </a: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: Ready, Set, Go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Increase students taking college credit courses in high school…</a:t>
            </a:r>
            <a:r>
              <a:rPr b="0" lang="en-US" sz="2800" spc="-1" strike="noStrike">
                <a:solidFill>
                  <a:srgbClr val="ebff1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ff16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lvl="1" marL="727920" indent="-280080">
              <a:spcBef>
                <a:spcPts val="11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nrollment Trend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4920" y="167652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Growth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ebff16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2007-08: 4,101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2008-09: 9,097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2009-10:  11,698</a:t>
            </a:r>
            <a:endParaRPr b="0" lang="en-US" sz="44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ff31"/>
                </a:solidFill>
                <a:latin typeface="Tahoma"/>
              </a:rPr>
              <a:t>Enrollment Trends</a:t>
            </a:r>
            <a:endParaRPr b="0" lang="en-US" sz="5400" spc="-1" strike="noStrike">
              <a:solidFill>
                <a:srgbClr val="fdff31"/>
              </a:solidFill>
              <a:latin typeface="Tahom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f16"/>
                </a:solidFill>
                <a:latin typeface="Tahoma"/>
              </a:rPr>
              <a:t>Drivers/Changes</a:t>
            </a:r>
            <a:endParaRPr b="0" lang="en-US" sz="48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Acceptance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STEM Legislative 2010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bff16"/>
                </a:solidFill>
                <a:latin typeface="Tahoma"/>
              </a:rPr>
              <a:t>Funding 2010-2011</a:t>
            </a:r>
            <a:endParaRPr b="0" lang="en-US" sz="3600" spc="-1" strike="noStrike">
              <a:solidFill>
                <a:srgbClr val="ebff16"/>
              </a:solidFill>
              <a:latin typeface="Tahoma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Learn and Earn Online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f16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ff1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3:29:27Z</dcterms:created>
  <dc:creator>John C. Brim</dc:creator>
  <dc:description/>
  <cp:keywords/>
  <dc:language>en-US</dc:language>
  <cp:lastModifiedBy>Deborah Pedersen</cp:lastModifiedBy>
  <cp:lastPrinted>1904-01-01T00:00:00Z</cp:lastPrinted>
  <dcterms:modified xsi:type="dcterms:W3CDTF">2010-11-12T20:27:08Z</dcterms:modified>
  <cp:revision>96</cp:revision>
  <dc:subject/>
  <dc:title>North Carolina  Virtual Public School</dc:title>
</cp:coreProperties>
</file>